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D9F2-EA62-435B-989B-DFD6CA2F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6A1B-4AF2-4632-92F9-8FEA9E4D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2AAE-879D-4443-B1BC-130DADCE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FFCD-E7FE-4B69-98C0-0A2D223E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F352-AEA7-4274-9897-B908F81B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47BF-F95F-4AE2-8356-31994437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4B7B-24DC-45E7-AD8D-D5EF5C43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398D-7A96-487B-A2C7-6B39CD40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B894-7E28-4202-8832-7E8585D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A4AB-BB45-49BB-977E-58D75579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E7CF-2702-41FD-B3E1-BCA3BEEC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4C5C-3E3B-4E77-B356-B89A5D1B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D71B-DB68-4DD5-A9E8-42FEAAD5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AE76-0F45-4385-9981-66EFB351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F6B5-A2A1-4DC5-A6F7-F6EF0C97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9B77-864F-4AB5-9479-DBFA64E3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B416-B1B7-4A34-9FF3-EABD4BAD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3F91-60EA-49BC-8792-3743EEB8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A22E-0A93-4397-A074-7BDFB986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CFD7-91F3-4500-A440-EC4D97D7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8629-2761-4EC1-BE71-1FBC2699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9E36-940B-43FA-8743-3392FCCD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193B-277E-40D0-A3DD-F7C859D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7A79-6726-45BE-B307-0B3C84A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387E-03C4-417D-BD8E-18DA0B5A3D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18EA-975A-4853-A71E-F207F64821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5e5ff"/>
                </a:solidFill>
                <a:latin typeface="Castellar"/>
              </a:rPr>
              <a:t>Vygotskij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eoria culturale e cognitiv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1"/>
          <p:cNvPicPr/>
          <p:nvPr/>
        </p:nvPicPr>
        <p:blipFill>
          <a:blip r:embed="rId1"/>
          <a:stretch/>
        </p:blipFill>
        <p:spPr>
          <a:xfrm>
            <a:off x="3203640" y="3357720"/>
            <a:ext cx="26622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Organization Chart 8"/>
          <p:cNvGrpSpPr/>
          <p:nvPr/>
        </p:nvGrpSpPr>
        <p:grpSpPr>
          <a:xfrm>
            <a:off x="442800" y="836640"/>
            <a:ext cx="8305200" cy="5614920"/>
            <a:chOff x="442800" y="836640"/>
            <a:chExt cx="8305200" cy="5614920"/>
          </a:xfrm>
        </p:grpSpPr>
        <p:cxnSp>
          <p:nvCxnSpPr>
            <p:cNvPr id="104" name="_s1028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487120" y="2189880"/>
              <a:ext cx="1123200" cy="29073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029"/>
            <p:cNvCxnSpPr>
              <a:stCxn id="108" idx="0"/>
              <a:endCxn id="106" idx="2"/>
            </p:cNvCxnSpPr>
            <p:nvPr/>
          </p:nvCxnSpPr>
          <p:spPr>
            <a:xfrm flipV="1">
              <a:off x="4595040" y="3082320"/>
              <a:ext cx="3960" cy="112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30"/>
            <p:cNvCxnSpPr>
              <a:stCxn id="110" idx="0"/>
              <a:endCxn id="106" idx="2"/>
            </p:cNvCxnSpPr>
            <p:nvPr/>
          </p:nvCxnSpPr>
          <p:spPr>
            <a:xfrm flipH="1" flipV="1" rot="5400000">
              <a:off x="2580120" y="2190240"/>
              <a:ext cx="1123200" cy="29073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" name="_s1031"/>
            <p:cNvSpPr/>
            <p:nvPr/>
          </p:nvSpPr>
          <p:spPr>
            <a:xfrm>
              <a:off x="3349440" y="836640"/>
              <a:ext cx="2491560" cy="22460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3 temi principali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42800" y="4205520"/>
              <a:ext cx="2491560" cy="22460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Importanza cultura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3349440" y="4205520"/>
              <a:ext cx="2491560" cy="22460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Ruolo del linguaggio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" name="_s1034"/>
            <p:cNvSpPr/>
            <p:nvPr/>
          </p:nvSpPr>
          <p:spPr>
            <a:xfrm>
              <a:off x="6256440" y="4205520"/>
              <a:ext cx="2491560" cy="22460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zona crescita  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Prossimale”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l ruolo del linguagg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de possibile il pensiero e regola il comportamen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È alla base della cultura umana e della coscien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mette l’interazione soci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tadi nello sviluppo delle funzioni del linguaggi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guaggio sociale:          (fino ai 3 ann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guaggio egocentrico:    (dai 3 ai 7 ann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guaggio sociale:(dai 7 anni in po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guaggio soci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sserv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 comportamento degli alt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prime pensieri ed emozioni sempli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Lo-sviluppo-fisico-del-bambino"/>
          <p:cNvPicPr/>
          <p:nvPr/>
        </p:nvPicPr>
        <p:blipFill>
          <a:blip r:embed="rId1"/>
          <a:stretch/>
        </p:blipFill>
        <p:spPr>
          <a:xfrm>
            <a:off x="4284720" y="3213000"/>
            <a:ext cx="464508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guaggio egocentric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prime il suo pensiero a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lta voce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 comprendere le proprie intenzio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shutterstock_14359180"/>
          <p:cNvPicPr/>
          <p:nvPr/>
        </p:nvPicPr>
        <p:blipFill>
          <a:blip r:embed="rId1"/>
          <a:stretch/>
        </p:blipFill>
        <p:spPr>
          <a:xfrm>
            <a:off x="755640" y="1700280"/>
            <a:ext cx="3240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guaggio soci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lan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terior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izza il proprio pensiero e comportam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7" descr="200912031108520"/>
          <p:cNvPicPr/>
          <p:nvPr/>
        </p:nvPicPr>
        <p:blipFill>
          <a:blip r:embed="rId1"/>
          <a:stretch/>
        </p:blipFill>
        <p:spPr>
          <a:xfrm>
            <a:off x="3851280" y="3284640"/>
            <a:ext cx="48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7:56:41Z</dcterms:created>
  <dc:creator>Utente</dc:creator>
  <dc:description/>
  <dc:language>en-US</dc:language>
  <cp:lastModifiedBy>Laura Polenta</cp:lastModifiedBy>
  <dcterms:modified xsi:type="dcterms:W3CDTF">2012-05-02T07:28:09Z</dcterms:modified>
  <cp:revision>12</cp:revision>
  <dc:subject/>
  <dc:title>Vygotskij</dc:title>
</cp:coreProperties>
</file>